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6E4C-2729-4165-A045-CAA87787F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95F2-0BA2-4B24-A830-21AACDD0C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504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7BCA-032E-4F92-BB2E-C22026B43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44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44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68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FE65-FAA8-45DE-AFE3-917B8AFB0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AFF9-759E-4FB5-8FEC-BD089CA940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DA0E-1D91-4AA6-9F68-49BC7B5792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0BB0-F55C-43BE-BF57-C05286CF47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ACBD-BE47-4C84-ADC1-889EF9831F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0210-2B32-4933-BE9F-4653C44E01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075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7FD0-8DA7-4052-8E96-66853B97CF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3A75-476C-4D86-9FF4-EA372C590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7E39-0B36-457C-879F-7E1B07A0E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504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1343-C974-4D65-BA21-346217EDE6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08F4-96CE-46D9-BCBA-501DA12596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1CD8-5D8F-41D4-98D0-5EC88E858A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504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043B-B63E-4FD6-BC0E-CB7B64C538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44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44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768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0A8A-C029-4B26-BB18-D44D9CF9B0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4001-7441-46AA-8A0B-F58D95201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A893-9B83-4836-B5D9-A08120326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C21A-ABAF-478F-A01A-C9C38504E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075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B5A2-829F-450D-A400-D0EC744DD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69E5-C53B-4813-B307-6F1CA241D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504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C4A3-F44E-4AC6-A490-8AAC50A0F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C776-C7C2-47E2-A12C-646DB559F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62940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3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B56D99-AEC7-4815-80B6-A9FC9C1FBAE5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2940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62940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3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700CB0-6C9C-4EA9-8596-D560206B8D29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Pro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851440"/>
            <a:ext cx="8785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Obrázky: Vlastní fotograf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 čemu procenta slouží, co vyjadřu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1341360"/>
            <a:ext cx="777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Procenta tedy slouží k vyjádření části celku, podobně jako zlomky nebo desetinná čís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34936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1 celek (základ) 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63640" y="3357720"/>
            <a:ext cx="590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cc"/>
                </a:solidFill>
                <a:latin typeface="Trebuchet MS"/>
              </a:rPr>
              <a:t>1 % … 1/100 (jedna setina) celku (základ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43700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2 % … 2/100 = 1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4869000"/>
            <a:ext cx="49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5 % … 5/100 = 1/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530208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10 % … 10/100 = 1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0920" y="5734080"/>
            <a:ext cx="49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25 % … 25/100 = 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0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Jak se s procenty počít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19700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Předpokládejme, že ve sledovanou chvíli se dívalo na všechny televize 100 000 diváků. Kolik diváků sledovalo jednotlivé televiz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26920" y="1662120"/>
            <a:ext cx="2806920" cy="2459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132000" y="350208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rebuchet MS"/>
              </a:rPr>
              <a:t>1 celek … 100 % … 100 000 div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8480" y="4076640"/>
            <a:ext cx="763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4221000"/>
            <a:ext cx="734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25 % … 25/100=1/4 … 1/4 ze 100 000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4653000"/>
            <a:ext cx="734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50 % … 50/100=1/2 … 1/2 ze 100 000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5099040"/>
            <a:ext cx="734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20 % … 20/100=1/5 … 1/5 ze 100 000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57240" y="5518080"/>
            <a:ext cx="734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2 % … 2/100=1/50 … 1/50 ze 100 000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57240" y="5935680"/>
            <a:ext cx="734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3 % … 3/100     3/100 ze 100 000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19640" y="4087800"/>
            <a:ext cx="1900440" cy="565200"/>
            <a:chOff x="5219640" y="4087800"/>
            <a:chExt cx="1900440" cy="565200"/>
          </a:xfrm>
        </p:grpSpPr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5219640" y="4087800"/>
                  <a:ext cx="190044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000</m:t>
                      </m:r>
                      <m:r>
                        <m:t xml:space="preserve">⋅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00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1" name=""/>
            <p:cNvSpPr/>
            <p:nvPr/>
          </p:nvSpPr>
          <p:spPr>
            <a:xfrm>
              <a:off x="5219640" y="4087800"/>
              <a:ext cx="19004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54640" y="4581360"/>
                <a:ext cx="1881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219640" y="5067360"/>
                <a:ext cx="1881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427720" y="5513400"/>
                <a:ext cx="1881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805280" y="5888160"/>
                <a:ext cx="1990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dur="indefinite" fill="hold">
                      <p:stCondLst>
                        <p:cond delay="0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ýpočty přes jedno proc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119700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Předpokládejme, že ve sledovanou chvíli se dívalo na všechny televize 100 000 diváků. Kolik diváků sledovalo jednotlivé televiz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26920" y="1662120"/>
            <a:ext cx="2806920" cy="24591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132000" y="350208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rebuchet MS"/>
              </a:rPr>
              <a:t>1 celek … 100 % … 100 000 div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8480" y="4076640"/>
            <a:ext cx="7632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407664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1 % … 100 000 : 100 = 1 000 div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443700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25 % … 25 . 1 000  = 25 000 div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474012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50 % … 50 . 1 000  = 50 000 div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504180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20 % … 20 . 1 000  = 20 000 div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44800" y="535788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2 % … 2 . 1 000  = 2 000 div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44800" y="566100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3 % … 3 . 1 000  = 3 000 div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40080" y="6064200"/>
            <a:ext cx="4076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55920" y="602136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Zkouška (celkem) … 100 000 divá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70040" y="1628640"/>
            <a:ext cx="4593960" cy="2719440"/>
            <a:chOff x="770040" y="1628640"/>
            <a:chExt cx="4593960" cy="2719440"/>
          </a:xfrm>
        </p:grpSpPr>
        <p:graphicFrame>
          <p:nvGraphicFramePr>
            <p:cNvPr id="202" name=""/>
            <p:cNvGraphicFramePr/>
            <p:nvPr/>
          </p:nvGraphicFramePr>
          <p:xfrm>
            <a:off x="770040" y="1628640"/>
            <a:ext cx="4593960" cy="27194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0040" y="1628640"/>
                      <a:ext cx="4593960" cy="27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770040" y="1628640"/>
              <a:ext cx="4593960" cy="27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 k procvič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119700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Předpokládejme, že při ověřování volebních preferencí bylo osloveno 25 000 respondentů. Kolik z nich se vyslovilo pro volbu ODS, kolik </a:t>
            </a:r>
            <a:br>
              <a:rPr sz="1800"/>
            </a:b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pro ČSSD, KSČM, KDU-ČSL a S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dur="indefinite" fill="hold">
                      <p:stCondLst>
                        <p:cond delay="0"/>
                      </p:stCondLst>
                      <p:childTnLst>
                        <p:par>
                          <p:cTn id="3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70040" y="1628640"/>
            <a:ext cx="4593960" cy="2719440"/>
            <a:chOff x="770040" y="1628640"/>
            <a:chExt cx="4593960" cy="2719440"/>
          </a:xfrm>
        </p:grpSpPr>
        <p:graphicFrame>
          <p:nvGraphicFramePr>
            <p:cNvPr id="209" name=""/>
            <p:cNvGraphicFramePr/>
            <p:nvPr/>
          </p:nvGraphicFramePr>
          <p:xfrm>
            <a:off x="770040" y="1628640"/>
            <a:ext cx="4593960" cy="27194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0040" y="1628640"/>
                      <a:ext cx="4593960" cy="27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>
              <a:off x="770040" y="1628640"/>
              <a:ext cx="4593960" cy="27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 k procvič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119700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Předpokládejme, že při ověřování volebních preferencí bylo osloveno 25 000 respondentů. Kolik z nich se vyslovilo pro volbu ODS, kolik </a:t>
            </a:r>
            <a:br>
              <a:rPr sz="1800"/>
            </a:b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pro ČSSD, KSČM, KDU-ČSL a S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0720" y="2421000"/>
            <a:ext cx="54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rebuchet MS"/>
              </a:rPr>
              <a:t>1 celek (základ) … 100 % … 25 000 responden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4076640"/>
            <a:ext cx="515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1 % … 25 000 : 100 = 250 respond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4437000"/>
            <a:ext cx="515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35 % … 35 . 250  = 8 750 respond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0" y="4740120"/>
            <a:ext cx="515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33 % … 33 . 250  = 8 250 respond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56000" y="5041800"/>
            <a:ext cx="515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15 % … 15 . 250  = 3 750 respond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5357880"/>
            <a:ext cx="515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10 % … 10 . 250  = 2 500 respond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28880" y="5661000"/>
            <a:ext cx="515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7 % … 7 . 250  = 1 750 respond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40080" y="6064200"/>
            <a:ext cx="503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4360" y="6021360"/>
            <a:ext cx="515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Zkouška (celkem) … 25 000 responden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dur="indefinite" fill="hold">
                      <p:stCondLst>
                        <p:cond delay="0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dur="indefinite" fill="hold">
                      <p:stCondLst>
                        <p:cond delay="indefinite"/>
                      </p:stCondLst>
                      <p:childTnLst>
                        <p:par>
                          <p:cTn id="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1125360"/>
            <a:ext cx="4537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rebuchet MS"/>
              </a:rPr>
              <a:t>%</a:t>
            </a:r>
            <a:br>
              <a:rPr sz="3600"/>
            </a:b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Procenta používáme 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k vyjádření části cel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2806560" cy="2458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546200" y="4005360"/>
            <a:ext cx="6050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1 celek … 100 % … např. 100 000 divá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78200" y="4437000"/>
            <a:ext cx="568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1 % … 100 000 : 100 = 1 000 divá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4869000"/>
            <a:ext cx="532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25 % … 25 . 1 000  = 25 000 divá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84720" y="2997360"/>
            <a:ext cx="2124000" cy="792000"/>
          </a:xfrm>
          <a:prstGeom prst="cloudCallout">
            <a:avLst>
              <a:gd name="adj1" fmla="val -70254"/>
              <a:gd name="adj2" fmla="val 8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Základ …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5950080"/>
            <a:ext cx="3529080" cy="718920"/>
          </a:xfrm>
          <a:prstGeom prst="cloudCallout">
            <a:avLst>
              <a:gd name="adj1" fmla="val 13384"/>
              <a:gd name="adj2" fmla="val -1482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očet procent …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5877000"/>
            <a:ext cx="3529080" cy="718920"/>
          </a:xfrm>
          <a:prstGeom prst="cloudCallout">
            <a:avLst>
              <a:gd name="adj1" fmla="val -36370"/>
              <a:gd name="adj2" fmla="val -1321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rocentová část … 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dur="indefinite" fill="hold">
                      <p:stCondLst>
                        <p:cond delay="0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de se s procenty setkáváte nejčastěj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5805360"/>
            <a:ext cx="777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rebuchet MS"/>
              </a:rPr>
              <a:t>V obchodech a na letácí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6264360" cy="46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476360" y="1052640"/>
            <a:ext cx="6264360" cy="4698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476360" y="1052640"/>
            <a:ext cx="6264360" cy="469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476360" y="105264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0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de se s procenty setkává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805360"/>
            <a:ext cx="777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rebuchet MS"/>
              </a:rPr>
              <a:t>V televiz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55640" y="1052640"/>
            <a:ext cx="7674120" cy="4752720"/>
            <a:chOff x="755640" y="1052640"/>
            <a:chExt cx="7674120" cy="4752720"/>
          </a:xfrm>
        </p:grpSpPr>
        <p:graphicFrame>
          <p:nvGraphicFramePr>
            <p:cNvPr id="98" name=""/>
            <p:cNvGraphicFramePr/>
            <p:nvPr/>
          </p:nvGraphicFramePr>
          <p:xfrm>
            <a:off x="755640" y="1052640"/>
            <a:ext cx="7674120" cy="47527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5640" y="1052640"/>
                      <a:ext cx="7674120" cy="47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5640" y="1052640"/>
              <a:ext cx="7674120" cy="47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de se s procenty setkává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5805360"/>
            <a:ext cx="777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rebuchet MS"/>
              </a:rPr>
              <a:t>V noviná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98400" y="1108080"/>
            <a:ext cx="7818480" cy="4626000"/>
            <a:chOff x="698400" y="1108080"/>
            <a:chExt cx="7818480" cy="4626000"/>
          </a:xfrm>
        </p:grpSpPr>
        <p:graphicFrame>
          <p:nvGraphicFramePr>
            <p:cNvPr id="105" name=""/>
            <p:cNvGraphicFramePr/>
            <p:nvPr/>
          </p:nvGraphicFramePr>
          <p:xfrm>
            <a:off x="698400" y="1108080"/>
            <a:ext cx="7818480" cy="46260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8400" y="1108080"/>
                      <a:ext cx="7818480" cy="46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698400" y="1108080"/>
              <a:ext cx="781848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0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 čemu procenta slouží, co vyjadřu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55640" y="2119320"/>
            <a:ext cx="7674120" cy="4118040"/>
            <a:chOff x="755640" y="2119320"/>
            <a:chExt cx="7674120" cy="4118040"/>
          </a:xfrm>
        </p:grpSpPr>
        <p:graphicFrame>
          <p:nvGraphicFramePr>
            <p:cNvPr id="111" name=""/>
            <p:cNvGraphicFramePr/>
            <p:nvPr/>
          </p:nvGraphicFramePr>
          <p:xfrm>
            <a:off x="755640" y="2119320"/>
            <a:ext cx="7674120" cy="41180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5640" y="2119320"/>
                      <a:ext cx="7674120" cy="411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755640" y="2119320"/>
              <a:ext cx="767412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55640" y="119700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Vraťme se například ke grafu sledovanosti televizí (tzv. koláči sledovanos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095560" y="2060640"/>
            <a:ext cx="4781520" cy="4190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715080" y="3357720"/>
            <a:ext cx="714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0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 čemu procenta slouží, co vyjadřu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19700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Vraťme se například ke grafu sledovanosti televizí (tzv. koláči sledovanos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095560" y="2060640"/>
            <a:ext cx="4781520" cy="4190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12000" y="4941720"/>
            <a:ext cx="2952720" cy="1584360"/>
          </a:xfrm>
          <a:prstGeom prst="cloudCallout">
            <a:avLst>
              <a:gd name="adj1" fmla="val -86935"/>
              <a:gd name="adj2" fmla="val -57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Jakou část koláče sledovanosti tvoří diváci sledujíc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 dané chvíli televizi Nov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270320" y="4221000"/>
            <a:ext cx="372960" cy="970200"/>
            <a:chOff x="4270320" y="4221000"/>
            <a:chExt cx="372960" cy="970200"/>
          </a:xfrm>
        </p:grpSpPr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4270320" y="4221000"/>
                  <a:ext cx="372960" cy="97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4270320" y="4221000"/>
              <a:ext cx="37296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72160" y="3284640"/>
                <a:ext cx="404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191280" y="1484280"/>
            <a:ext cx="2952720" cy="1584360"/>
          </a:xfrm>
          <a:prstGeom prst="cloudCallout">
            <a:avLst>
              <a:gd name="adj1" fmla="val -80537"/>
              <a:gd name="adj2" fmla="val 811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Jakou část koláče sledovanosti tvoří diváci sledujíc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 dané chvíli televizi ČT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797360"/>
            <a:ext cx="2952720" cy="1584360"/>
          </a:xfrm>
          <a:prstGeom prst="cloudCallout">
            <a:avLst>
              <a:gd name="adj1" fmla="val 64245"/>
              <a:gd name="adj2" fmla="val -107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Jakou část koláče sledovanosti tvoří diváci sledujíc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 dané chvíli televizi Prim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924360" y="3141720"/>
                <a:ext cx="3747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 čemu procenta slouží, co vyjadřu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19700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Vraťme se například ke grafu sledovanosti televizí (tzv. koláči sledovanos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4781520" cy="419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651640" y="1844640"/>
            <a:ext cx="3058920" cy="2087640"/>
          </a:xfrm>
          <a:prstGeom prst="cloudCallout">
            <a:avLst>
              <a:gd name="adj1" fmla="val -94578"/>
              <a:gd name="adj2" fmla="val 16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Jakou část koláče sledovanosti tvoří všichni diváci sledujíc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 dané chvíli jakoukoliv televiz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1497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rebuchet MS"/>
              </a:rPr>
              <a:t>1 cel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51640" y="1844640"/>
            <a:ext cx="3058920" cy="2087640"/>
          </a:xfrm>
          <a:prstGeom prst="cloudCallout">
            <a:avLst>
              <a:gd name="adj1" fmla="val -94578"/>
              <a:gd name="adj2" fmla="val 16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Kolika procenty je tento jeden celek tvoř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00800" y="5286240"/>
            <a:ext cx="25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50+20+2+3+25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72080" y="578628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rebuchet MS"/>
              </a:rPr>
              <a:t>100 %</a:t>
            </a: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72080" y="47149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rebuchet MS"/>
              </a:rPr>
              <a:t>odpovídá</a:t>
            </a: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018800" y="1841400"/>
            <a:ext cx="4176720" cy="43243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0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 čemu procenta slouží, co vyjadřu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19700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Procenta tedy slouží k vyjádření části celku, podobně jako zlomky nebo desetinná čís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4781520" cy="4190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148360" y="5734080"/>
            <a:ext cx="34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1 celek 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94200" y="3429000"/>
            <a:ext cx="876600" cy="936720"/>
            <a:chOff x="5794200" y="3429000"/>
            <a:chExt cx="876600" cy="9367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5794200" y="3429000"/>
                  <a:ext cx="87660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⋅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5794200" y="3429000"/>
              <a:ext cx="87660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 čemu procenta slouží, co vyjadřují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19700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Procenta tedy slouží k vyjádření části celku, podobně jako zlomky nebo desetinná čís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4781520" cy="4190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48360" y="5734080"/>
            <a:ext cx="34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1 celek … 10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794200" y="3457440"/>
            <a:ext cx="865440" cy="865440"/>
            <a:chOff x="5794200" y="3457440"/>
            <a:chExt cx="865440" cy="86544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5794200" y="3457440"/>
                  <a:ext cx="86544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⋅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5794200" y="3457440"/>
              <a:ext cx="86544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04000" y="4292640"/>
            <a:ext cx="2124000" cy="1081080"/>
          </a:xfrm>
          <a:prstGeom prst="cloudCallout">
            <a:avLst>
              <a:gd name="adj1" fmla="val -49476"/>
              <a:gd name="adj2" fmla="val 8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Základ …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013360"/>
            <a:ext cx="3635280" cy="1295280"/>
          </a:xfrm>
          <a:prstGeom prst="cloudCallout">
            <a:avLst>
              <a:gd name="adj1" fmla="val 54453"/>
              <a:gd name="adj2" fmla="val -1220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očet procent …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1785960"/>
            <a:ext cx="2571840" cy="1295280"/>
          </a:xfrm>
          <a:prstGeom prst="cloudCallout">
            <a:avLst>
              <a:gd name="adj1" fmla="val -11314"/>
              <a:gd name="adj2" fmla="val 100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rocentová část … 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0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Šárka Macháňová</dc:creator>
  <dc:description>Dostupné z Metodického portálu www.rvp.cz, ISSN: 1802-4785, financovaného z ESF a státního rozpočtu ČR. Provozováno Výzkumným ústavem pedagogickým v Praze.</dc:description>
  <dc:language>en-US</dc:language>
  <cp:lastModifiedBy>a</cp:lastModifiedBy>
  <dcterms:modified xsi:type="dcterms:W3CDTF">2009-09-15T17:53:11Z</dcterms:modified>
  <cp:revision>154</cp:revision>
  <dc:subject/>
  <dc:title>Procenta - úvod</dc:title>
</cp:coreProperties>
</file>